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F86-5AED-497A-A50E-91A47C36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974-DB60-405A-B06F-7DFE41D2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8D6-AADF-4A11-87E3-3D318F61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495-C89B-4D1A-9281-EAFF010C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7EC-37CD-42CB-8033-00AD83FD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D72-CCDD-4972-9148-9E22E63B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D67-6C83-4A83-A969-D0DD5FBE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CDA-824B-4873-8C74-53673349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D3E-773E-4A24-87D0-8C656041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009-44EB-48BC-859B-3102CA54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F91-EA59-4ED1-B3BB-87BF8587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A91-E326-477C-B9FA-582C8B77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6B19-F453-4DE3-A990-A4F415050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1946160"/>
          </a:xfrm>
          <a:prstGeom prst="rect">
            <a:avLst/>
          </a:prstGeom>
          <a:solidFill>
            <a:srgbClr val="dcc2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e we can eat a whole bag of sweets and not get a sugar hypo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earning about how we keep a constant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keep our insides fairly constant from day to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earning about how we keep a constant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ort of things might change on the outside that we have to respond to on the in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get water into our bod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get water into our bod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loose water from our bod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get water into our bod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loose water from our bod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already know about how we keep a constant level of water in our blood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nt – have you ever looked at your urin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ight we need to keep a constant level of water in our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gain water by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oose water by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keep a constant level of water in our blood because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ontrol the amount of water we loose by changing 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ontrolled by our …….and our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salts (or ions) in your blood can als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ove in and out of cells with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we gain and loose salts and how the amount we loose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need to keep a constant internal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our bodies do when we’re h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our bodies do when we are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own words explain what our bodies do when it is hot and cold, and why they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 – include reference to hypother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sug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uch (EXCESS) Sugar -&gt;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-&gt;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in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solidFill>
            <a:srgbClr val="dcc2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e we can drink pints of water without leaking?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sug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en there’s not enough glucose (s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-&gt;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in liver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explain that for yoursel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0" y="3860280"/>
            <a:ext cx="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700000" y="47242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23640" y="3284640"/>
            <a:ext cx="647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340000" y="2997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826920" y="3068280"/>
            <a:ext cx="432000" cy="2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637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QA Science page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wer questions 1 an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talk about how scienc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answer 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do we keep an even level of salt when one day we eat crisps and chips and the next day we don’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we keep cool when it’s h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5893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arm when it’s c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47640" y="1554120"/>
            <a:ext cx="56883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earning about how we keep a constant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earning about how we keep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2637000"/>
            <a:ext cx="1942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573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earning about how we keep a constan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2565360"/>
            <a:ext cx="180000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3573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earning about how we keep a constant interna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2637000"/>
            <a:ext cx="1656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645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hings 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0:07:56Z</dcterms:created>
  <dc:creator>sthobbsc</dc:creator>
  <dc:description/>
  <dc:language>en-US</dc:language>
  <cp:lastModifiedBy>sthobbsc</cp:lastModifiedBy>
  <dcterms:modified xsi:type="dcterms:W3CDTF">2006-09-26T09:26:40Z</dcterms:modified>
  <cp:revision>3</cp:revision>
  <dc:subject/>
  <dc:title>How come we can eat a whole bag of sweets and sugar hypo?!</dc:title>
</cp:coreProperties>
</file>